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8F7-164D-4C7D-99D6-4C3D7E03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D65-650D-4BA7-BA79-6870D477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C6E-A66F-417B-9CAC-B4CDF373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BE5-5BDE-4D56-9E9A-BC092492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F4F-7BA2-4F18-A0C1-ABA6F7A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F3B-003F-4006-98C0-92EDB394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477-84D5-4AA8-893E-5A94821E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386-6CDE-415F-A270-2DBF8F24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8A7-6C4C-4AEA-A83C-392CC0D3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A59-07FC-4414-A55C-027CB7A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410-2433-4DC9-ABFB-2968434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670-A843-4686-A3DD-3644110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993A9-E1B7-42F7-8DC1-5D0EF28A6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6FD72-E75A-4E7A-B4AA-5D17DD81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youtube.com/watch?v=SjozP5DrtDU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C:\Users\Gareth\AppData\Local\Microsoft\Windows\Temporary Internet Files\Content.IE5\U4571BIX\MCj00845860000[1].wmf"/>
          <p:cNvPicPr/>
          <p:nvPr/>
        </p:nvPicPr>
        <p:blipFill>
          <a:blip r:embed="rId1"/>
          <a:stretch/>
        </p:blipFill>
        <p:spPr>
          <a:xfrm>
            <a:off x="2286000" y="3500280"/>
            <a:ext cx="4672080" cy="2454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200400" y="1143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partan School Mus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ever when it came to Athens and Sparta against each other…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 won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t, they did not take over Athens they said they would not burn it as long as Athens promised not to  keep trying to take over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was therefore left as it was and even now is one of the most famous cities in the worl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Athens and Sparta were probably the two most famous and powerful city states in Ancient Gree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However, they were both very differ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’ Government ruled as a democracy. They were th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to ever do th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’s Government ruled as an oligarchy  by 2 K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th Athens’ and Sparta’s governments were elected by the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thens is built below the acropolis which stands on a hill above all of Ath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parta is surrounded by mountains, which makes it difficult for it to be inva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thens was a very creative city st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hey believed in a good education. (for bo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You could go into the army or navy if you wanted to. (if you were a bo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 was very focused on obedience and war and the people did not have any luxu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ys did not have to work or be educated but trained to be warriors from a young 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ys had to join the Spartan ar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were not regarded as important by the Athen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could be taught at home. (if they had rich par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were not allowed to take part in anything to do with war, business or edu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in Sparta were to grow up to be the mothers of warri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lthough they were not allowed to fight, girls took part in all the training because healthy ladies produced healthy babies, who would f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and Sparta had very different ways of living their l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wanted to control as much land as possible and this led to much war between Greek l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, although more powerful kept itself to itself unless their army w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2:01:47Z</dcterms:created>
  <dc:creator>IT User</dc:creator>
  <dc:description/>
  <dc:language>en-US</dc:language>
  <cp:lastModifiedBy>IT User</cp:lastModifiedBy>
  <dcterms:modified xsi:type="dcterms:W3CDTF">2010-12-08T12:02:33Z</dcterms:modified>
  <cp:revision>1</cp:revision>
  <dc:subject/>
  <dc:title>Athens V Sparta</dc:title>
</cp:coreProperties>
</file>